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3FFC-02CD-4308-B361-083A19D42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EBFD-5E39-45B7-B58B-E6A816D8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3A5-02EC-4980-BBAE-52FA45C1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FAF-3B9F-49D5-9062-8E757163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C80-9012-4E6B-AA25-B58A8D7C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EC5-C1CF-4988-B740-4265E054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2C1-1B91-4E63-8320-9C76D67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C05-660C-4C2F-87AD-27BEBBB2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E4C-59E5-4E4B-A91D-DF5F5BF7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4F0-FAF5-4013-AAD2-B1D23BAC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AEA-1445-4C5B-9C07-B2789E2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40C-5E55-406E-98D0-81C02EA2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8FA-EF08-49F2-B777-949684B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BFA-1040-47AF-97AB-3B88BCF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01F9-5F2A-4593-A1B0-4FF25C8544DC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3880" y="2514600"/>
            <a:ext cx="73915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computer on and enter your username ( ex.  abc5000) and password  (THIS IS THE ONE YOU CREATED TO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Firefo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: elion.ps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studen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in using the same username and passwor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33720" y="137160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ELCOME TO COE FT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UPDATE YOUR PERSONAL INFORMATION IN E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654280" y="1582560"/>
            <a:ext cx="55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 FTCAP Miscellaneo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43040" y="2417760"/>
            <a:ext cx="75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mail.psu.edu (check your Penn State e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ing office (814-865-04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- Mac Computer requirement for CEAED, SPLED, WLED &amp; English majors ….junior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on.psu.edu (register for cour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Bookma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7:18:38Z</dcterms:created>
  <dc:creator>PSU Lab User</dc:creator>
  <dc:description/>
  <dc:language>en-US</dc:language>
  <cp:lastModifiedBy>Cathy Hipple</cp:lastModifiedBy>
  <dcterms:modified xsi:type="dcterms:W3CDTF">2010-05-14T19:07:21Z</dcterms:modified>
  <cp:revision>15</cp:revision>
  <dc:subject/>
  <dc:title>PowerPoint Presentation</dc:title>
</cp:coreProperties>
</file>