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AF24-427C-423A-A7DD-21484D9DF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A293-5697-4A63-9F92-FC6357DBE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7451-AFDB-40D1-B473-9A4993981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120" y="4229280"/>
            <a:ext cx="7162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B2BB-1BD9-4ABA-9F5C-9BD6D71E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12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2268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86A0-C873-4A26-AB78-6F3953A86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3840" y="243792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95920" y="243792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120" y="422928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3840" y="422928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95920" y="422928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44B4-547D-4720-A837-75E7335B9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2B09-F12C-4C83-AA96-FBA6575F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A46C-1B17-4B6A-A8D5-655E9533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A092-C299-48DD-AF89-00E5D9A3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0075-7D51-422A-8F39-9FB11681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121896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FD81-584C-4184-A45D-68534D77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12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62D9-A3D4-40BB-BAB7-B07A1687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2268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DD12-9074-495A-AE7D-BDA7EFF7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120" y="4229280"/>
            <a:ext cx="7162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D8A3-4D45-4ED1-9BAF-17FB6C0C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38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160A-51E1-4D91-8EEA-29C98A0A373E}" type="slidenum"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523880" y="2514600"/>
            <a:ext cx="739152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n computer on and enter your username ( ex.  abc5000) and password  (THIS IS THE ONE YOU CREATED TODA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Firefo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to: elion.psu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“student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 in using the same username and password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personal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2133720" y="1371600"/>
            <a:ext cx="6781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WELCOME TO COE FTC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UPDATE YOUR PERSONAL INFORMATION IN E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2654280" y="1582560"/>
            <a:ext cx="554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E FTCAP Miscellaneous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643040" y="2417760"/>
            <a:ext cx="7500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mail.psu.edu (check your Penn State ema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sing office (814-865-048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E - Mac Computer requirement for CEAED, SPLED, WLED &amp; English majors ….junior y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on.psu.edu (register for cour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E Bookma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3T17:18:38Z</dcterms:created>
  <dc:creator>PSU Lab User</dc:creator>
  <dc:description/>
  <dc:language>en-US</dc:language>
  <cp:lastModifiedBy>Cathy Hipple</cp:lastModifiedBy>
  <dcterms:modified xsi:type="dcterms:W3CDTF">2010-05-14T19:07:21Z</dcterms:modified>
  <cp:revision>15</cp:revision>
  <dc:subject/>
  <dc:title>PowerPoint Presentation</dc:title>
</cp:coreProperties>
</file>