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485-132F-47D7-8204-50C68B67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785-8719-41A3-BFA2-0007BDB3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44A-305D-40B3-B16B-667C5459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1D2-10A5-4257-93E3-9AF7419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8B8-C0DC-4137-A9C8-C7B20977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70A-D56B-452A-8005-ECEA7DA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2AB-6B83-443A-8A02-38825D3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6FB-B984-4FEB-B7AC-B11A8176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380-FCF3-4DDE-85F0-68BFC9F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DC4-091E-48DB-9648-7392B23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B51-168A-4263-8ADB-5F49F14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5B0-2668-4AF5-9994-1540588B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21D-225E-4FEB-BA63-1253414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9CD-AE93-4FEA-BC96-29AF7D8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7EB-89BF-402F-9619-61932BC19B6C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3880" y="2514600"/>
            <a:ext cx="7391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computer on and enter your username ( ex.  abc5000) and password  (THIS IS THE ONE YOU CREATED TO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refo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elion.ps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stude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in using the same username and passwor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13716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ELCOME TO COE FT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PDATE YOUR PERSONAL INFORMATION IN E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654280" y="1582560"/>
            <a:ext cx="55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 FTCAP Miscellaneo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43040" y="241776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mail.psu.edu (check your Penn State 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ing office (814-865-04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- Mac Computer requirement for CEAED, SPLED, WLED &amp; English majors ….junior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on.psu.edu (register for cour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Bookm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7:18:38Z</dcterms:created>
  <dc:creator>PSU Lab User</dc:creator>
  <dc:description/>
  <dc:language>en-US</dc:language>
  <cp:lastModifiedBy>Cathy Hipple</cp:lastModifiedBy>
  <dcterms:modified xsi:type="dcterms:W3CDTF">2010-05-14T19:07:21Z</dcterms:modified>
  <cp:revision>15</cp:revision>
  <dc:subject/>
  <dc:title>PowerPoint Presentation</dc:title>
</cp:coreProperties>
</file>