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A89-DE2B-4294-8892-E9D81E0D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6BD-38D4-4C62-B4E9-33DA17788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2DA-9568-4546-8CDC-F2CF4D0E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BDF-B9F2-48DD-86FA-86B4FA1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27D-2A67-4BD4-BE4C-E4ED780B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358-2B6A-4195-ABF0-FDAFF590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32D-02FA-4276-B01F-8DD4C3A5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0C4-CE1B-4DCE-9B34-B41E56A5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91B-88CF-481C-B0F9-6E6F0FC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8A0-C9BF-4C8F-9D77-333D30B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9DA-27D0-4BAB-A896-B5695DF2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3C1-64F8-4B1E-81ED-B3F85CF4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91F-2194-49CC-9C5C-AA86AC5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FA6-F6E1-42B0-A96B-ACB95670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AA0-D7E0-4A97-ACF6-332F2B6E6B10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3880" y="2514600"/>
            <a:ext cx="73915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computer on and enter your username ( ex.  abc5000) and password  (THIS IS THE ONE YOU CREATED TO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Firefo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: elion.ps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“student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in using the same username and passwor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13716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ELCOME TO COE FT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PDATE YOUR PERSONAL INFORMATION IN E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654280" y="1582560"/>
            <a:ext cx="55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 FTCAP Miscellaneo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43040" y="241776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mail.psu.edu (check your Penn State em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ing office (814-865-04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- Mac Computer requirement for CEAED, SPLED, WLED &amp; English majors ….junior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on.psu.edu (register for cour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Bookma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7:18:38Z</dcterms:created>
  <dc:creator>PSU Lab User</dc:creator>
  <dc:description/>
  <dc:language>en-US</dc:language>
  <cp:lastModifiedBy>Cathy Hipple</cp:lastModifiedBy>
  <dcterms:modified xsi:type="dcterms:W3CDTF">2010-05-14T19:07:21Z</dcterms:modified>
  <cp:revision>15</cp:revision>
  <dc:subject/>
  <dc:title>PowerPoint Presentation</dc:title>
</cp:coreProperties>
</file>